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87DA-C424-4819-B47C-2F3152B5D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B84F-AF3E-40E7-9B16-9955C0B6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AA9D-9F1F-4825-BD14-6865A301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D7A8-332C-4095-970B-16238078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3FB77-1A51-41A6-AC79-245CD3461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ACA03-EA13-4F86-8DC5-A21BD1A9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8F633-C8B9-4E2C-95AF-EEFBD893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C6A3D-ED78-4BD8-A5C0-3C092B21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6A67D-9331-4CDF-9768-6ECF454B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40B8A-9595-4D16-8717-F0EB97E0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4A07C-312C-4346-84E3-08C460AB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233A-6B4A-4660-866E-3F36E55A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04633-D3EF-44B6-AB69-B0F5C1C9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2A6F6-0417-4ECD-99ED-0EE4DFDA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B5914-CEB0-43FE-A558-DA8A282A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5C0C2-DADD-462C-A3C0-634DE7F5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017D5-04AD-47EC-807C-B17A03A0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6842F-4331-4521-9555-F422606D1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EAEC8-01F4-477D-B29A-32AA4E8A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3D71A-7174-4A73-8D74-F3AA5A0F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8AD38-AD09-409D-8EDC-0D89A898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3E31A-CB16-4B8B-BAC9-DD9894A3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7A41-5E9C-44AB-BC9F-935654A2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E6BA8-AE3E-411D-A4A6-143E5A1D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83DDC-CDDE-4CD9-9301-B51F45BF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F1516-FDF4-46D8-9B6D-163A1CF7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E1828-3F2F-4EDD-9122-26367233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2811F-F2AD-451F-98B3-5D007666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F4662-815F-413F-A7C3-3A068D59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AC020-78ED-4EEB-9D8A-6F7AECCAE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60E34-C9C6-4397-B3ED-68C82EB4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0C949-519B-49D3-8889-4C22CB01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7257D-8B33-4C99-9418-0A3FE08E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F162-1936-414F-A2BA-119D0D57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AE33C-52C3-4E1C-918D-7256DF95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A320A-2E0A-4F46-834D-B8D1BAAD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17D02-2BB4-45A9-8018-78901BFD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81AAB-0454-4545-B049-57BFDF78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7F079-D0DF-4A2D-BBBB-A5759CD9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1A86A-64B0-456A-9736-F58084F8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A41C0-4682-417D-BEAA-C6C0A5B1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2089B-8222-45FE-928C-7A72B39D1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4BE48-1787-4B6F-9ED0-1C282FEB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C9CBF-0172-4D95-8BC9-28486C0F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A955-2028-4759-878A-C6F752DC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02FBA-AB3E-47F3-967A-4857FC0F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3EC06-05D9-44BC-BAB3-CF66C1C8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D4C33-B913-49CA-A371-593307E3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B0795-AD84-42A1-87ED-F3E9FBE3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9CA91-A75A-46CC-9051-D42865B6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7FB9A-8BF5-41FB-869C-179E8F09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6CE66-2CA4-405F-A9F6-1DEDB040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A748E-220E-495E-996B-DF417D43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AB366-6F18-4446-99B3-37A4EFEE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799E6-5B4B-459B-B1FF-45243CCFF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AD73-2FDD-4B83-B615-04E8895D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924B5-0528-4968-BEF5-028674631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96ED-1D85-46E5-B997-3B1CBF22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73B0-E9BE-4820-8E45-AC30A9C9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585D-0340-48CC-86C3-501983CA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718D-E154-44AA-A61A-F96CC7DA19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E27B-AEBB-477E-9836-EF1A94E3AC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ftr" idx="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1E3C-BF23-433D-B80F-5DC0AF4843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3620-76C3-4ED6-8B7F-BBE6643CE3A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71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</p:grpSp>
          <p:sp>
            <p:nvSpPr>
              <p:cNvPr id="185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</p:grpSp>
        </p:grpSp>
      </p:grpSp>
      <p:grpSp>
        <p:nvGrpSpPr>
          <p:cNvPr id="197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98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01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02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04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</p:grpSp>
        </p:grpSp>
        <p:sp>
          <p:nvSpPr>
            <p:cNvPr id="212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0692-24B8-49D5-9789-2FAC098268C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55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59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</p:grpSp>
      <p:grpSp>
        <p:nvGrpSpPr>
          <p:cNvPr id="264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65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69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</p:grpSp>
      <p:sp>
        <p:nvSpPr>
          <p:cNvPr id="274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Intro to organic chemistry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685800" y="3225960"/>
            <a:ext cx="463248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SCH4U – Unit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ree parts to organic chemistry nomenclatur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38086"/>
                </a:solidFill>
                <a:uFillTx/>
                <a:latin typeface="Georgia"/>
              </a:rPr>
              <a:t>Prefix: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indicates number, type and location of branches and/or functional groups (if any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38086"/>
                </a:solidFill>
                <a:uFillTx/>
                <a:latin typeface="Georgia"/>
              </a:rPr>
              <a:t>Root: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indicates the number of carbon atoms in the main (parent) chai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38086"/>
                </a:solidFill>
                <a:uFillTx/>
                <a:latin typeface="Georgia"/>
              </a:rPr>
              <a:t>Suffix: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indicates the number and location of double or triple bonds (if any) and/or highest priority functional group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Let’s draw alkanes!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raw all ten basic alkanes and name them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lkyl groups and branch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ach branch of a hydrocarbon is referred to as an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alkyl group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if it contains only C and H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kyl groups use the same basic roots as alkan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kyls always end in “~yl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so contain a number and hyphen in front to indicate location on the main carbon chai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xample: 2-methyl pentan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5003640" y="5013360"/>
            <a:ext cx="32911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lkyl groups and branch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nd the longest carbon chain and assign sequential numbers to each carb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ssign these numbers temporarily starting from both ends of the carbon chai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Ultimately will select only one set of numbers to us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goal is to use the numbering along the carbon chain that gives the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lowes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values assigned to branch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lkyl groups and branch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t’s try some!  Draw 3-ethyl octane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1258920" y="3141720"/>
            <a:ext cx="561672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lkyl groups and branch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119160" y="2637000"/>
            <a:ext cx="891684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lkyl groups and branch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en there is more than one branch, they are listed in front of the root and suffix according to alphabetical order of the name of the alkyl grou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y naming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4-ethyl 3-methyl hepta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3564000" y="3789360"/>
            <a:ext cx="451332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lkyl groups and branch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there is more than one of any given alkyl grou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ndicate all the number for the positions using commas to separate the numbers, an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Use prefixes (on the prefixes – confused yet?) to indicate the number pres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lkyl groups and branch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y naming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5,6-diethyl-3,3,4-trimethyl nona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100160" y="2205000"/>
            <a:ext cx="73310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rganic Compound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Organic chemistry: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hemistry of carbon compoun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xceptions are oxides of carbon (CO</a:t>
            </a:r>
            <a:r>
              <a:rPr b="0" lang="en-US" sz="2600" spc="-1" strike="noStrike" baseline="-25000">
                <a:solidFill>
                  <a:srgbClr val="438086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 and CO), carbonates, bicarbonates, and cyanides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bon atoms are generally bonded to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ach othe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ydrogen atom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Other specific elements (O, N, S, P and others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y study organic chemistry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05160" indent="-49896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ife is carbon-based.  Everyone is made up of organic compounds.  There are more known carbon compounds than any other elemen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5160" indent="-49896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re are several million known organic compounds with ~30,000 more being “discovered” each year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5160" indent="-49896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ome common organic compounds include plastics, synthetic and natural fibres, dyes, drugs, pesticides, lighter fluid, and gasolin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he carbon atom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bon has four valence electrons allowing it to form four bonds with other atoms by sharing its electr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This results in a </a:t>
            </a:r>
            <a:r>
              <a:rPr b="1" lang="en-US" sz="2600" spc="-1" strike="noStrike" u="sng">
                <a:solidFill>
                  <a:srgbClr val="438086"/>
                </a:solidFill>
                <a:uFillTx/>
                <a:latin typeface="Georgia"/>
              </a:rPr>
              <a:t>tetrahedral shap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bon forms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covalent bond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sharing of electrons) with carbon atom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assifica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nce organic compounds are composed almost entirely of carbon, they are sometimes referred to as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hydrocarb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ydrocarbons can be divided into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06840" indent="-50400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liphatics: carbon atoms in an open chain structure; may have branches, but no ring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06840" indent="-50400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licyclics: carbon atoms arranged in a ring structur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06840" indent="-50400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romatics: structures related to benzene (C</a:t>
            </a:r>
            <a:r>
              <a:rPr b="0" lang="en-US" sz="2600" spc="-1" strike="noStrike" baseline="-25000">
                <a:solidFill>
                  <a:srgbClr val="438086"/>
                </a:solidFill>
                <a:latin typeface="Georgia"/>
              </a:rPr>
              <a:t>6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</a:t>
            </a:r>
            <a:r>
              <a:rPr b="0" lang="en-US" sz="2600" spc="-1" strike="noStrike" baseline="-25000">
                <a:solidFill>
                  <a:srgbClr val="438086"/>
                </a:solidFill>
                <a:latin typeface="Georgia"/>
              </a:rPr>
              <a:t>6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assifica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iphatics can be further categorized into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2556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lkanes: contains only single bonds (saturated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2556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lkenes: contains at least one double bond (unsaturated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2556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lkynes: contains at least on triple bon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iagrams &amp; formula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number of different (but related) diagrams used to express structures in organic chemistry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mpirical molecular formula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xpanded molecular formula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omplete structural formula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ondensed structural formula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Line structural formula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3D structural formula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lkan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457200" y="2249640"/>
          <a:ext cx="8229600" cy="39877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  <a:ea typeface="Arial"/>
                        </a:rPr>
                        <a:t># of carb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  <a:ea typeface="Arial"/>
                        </a:rPr>
                        <a:t>Pre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  <a:ea typeface="Arial"/>
                        </a:rPr>
                        <a:t># of carb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  <a:ea typeface="Arial"/>
                        </a:rPr>
                        <a:t>Pre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Meth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Hex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Eth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Hept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Prop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Oct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But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Non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Pent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Dec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lkan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nly single bonds present in the main chai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eneral formula is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2n+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m a tetrahedral shap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ote: more on shapes in the next uni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reate a 109.5° angle between bon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sidered “saturated” because no other hydrogen atoms can be add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ways end in “~ane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09:49:02Z</dcterms:created>
  <dc:creator>C. Shopman</dc:creator>
  <dc:description/>
  <dc:language>en-US</dc:language>
  <cp:lastModifiedBy>C363966</cp:lastModifiedBy>
  <dcterms:modified xsi:type="dcterms:W3CDTF">2017-09-09T00:23:23Z</dcterms:modified>
  <cp:revision>57</cp:revision>
  <dc:subject/>
  <dc:title>Intro to organic chemistry (orgo)</dc:title>
</cp:coreProperties>
</file>